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gif" ContentType="image/gif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3A1B2-B705-45EB-8BA8-EFFE28011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15DB1-A48A-424A-AF01-7D8D04658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2B859-E59D-4CF9-A0F7-26F2ADB46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28327-AD47-4EF4-AEF5-9A30E0E93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5B17D-7059-42A8-BE5E-5FA8CFEA5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11EDA-638A-4B56-8F6A-A1ED2D890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161DE-575F-4D97-ACBA-502702978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34061-5C6B-449C-B666-A85F6F306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ED18C-F16E-4F15-861C-7D30917F0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544EB-3906-4C3D-ADAE-D2FD42F07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227E4-998F-460B-87E0-E88A9C84B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A73BF-99F0-4EA5-B3B3-82151C916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16BF2-AD1C-4997-9AAE-1E64CA9210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Нормативные правовые акты, регламентирующие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безопасность</a:t>
            </a:r>
            <a:br>
              <a:rPr sz="2800"/>
            </a:b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эксплуатации зданий и сооружений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 u="sng">
                <a:solidFill>
                  <a:srgbClr val="cc0099"/>
                </a:solidFill>
                <a:uFillTx/>
                <a:latin typeface="Arial"/>
              </a:rPr>
              <a:t>Основные из них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рудовой кодекс Российской Федерации от 30.12.2001 № 197-ФЗ (ст. ст. 212 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15);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Федеральный закон «Об основах охраны труда в Российской Федерации» о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02.07.1999 № 181-ФЗ (ст. 1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з статьи 212 Трудового кодекса: «Работодатель обязан обеспечить безопасно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ботников при эксплуатации зданий, сооружений...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ребования по правильной и безопасной эксплуатации производственных зданий 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ооружений изложены в следующих основных нормативных актах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Строительные нормы и правила РФ 31-03-2001 «Производственные здания»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Строительные нормы и правила РФ 31-04-2001 «Складские помещения»;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Положение о проведении планово-предупредительного ремон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изводственных зданий и сооружений. Утв. Постановлением Госстроя СССР о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9.12.1973 № 279. Положение является обязательным при проведении планово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едупредительных ремонтов производственных зданий и сооружений всех отрасл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экономики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Положение  о порядке расследования причин аварий зданий, сооружений и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частей и конструктивных элементов. Утв. Минстроем России 06.12.1994 № 17-4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7704000" y="-14400"/>
            <a:ext cx="1476360" cy="12826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 rot="5400000">
            <a:off x="8322120" y="6079320"/>
            <a:ext cx="863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8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" dur="20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7000"/>
                            </p:stCondLst>
                            <p:childTnLst>
                              <p:par>
                                <p:cTn id="2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" dur="20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9000"/>
                            </p:stCondLst>
                            <p:childTnLst>
                              <p:par>
                                <p:cTn id="3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" dur="200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" dur="2000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3000"/>
                            </p:stCondLst>
                            <p:childTnLst>
                              <p:par>
                                <p:cTn id="3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" dur="2000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5000"/>
                            </p:stCondLst>
                            <p:childTnLst>
                              <p:par>
                                <p:cTn id="4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" dur="2000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7000"/>
                            </p:stCondLst>
                            <p:childTnLst>
                              <p:par>
                                <p:cTn id="4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" dur="2000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9000"/>
                            </p:stCondLst>
                            <p:childTnLst>
                              <p:par>
                                <p:cTn id="5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" dur="2000"/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21000"/>
                            </p:stCondLst>
                            <p:childTnLst>
                              <p:par>
                                <p:cTn id="5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" dur="2000"/>
                                        <p:tgtEl>
                                          <p:spTgt spid="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23000"/>
                            </p:stCondLst>
                            <p:childTnLst>
                              <p:par>
                                <p:cTn id="5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" dur="2000"/>
                                        <p:tgtEl>
                                          <p:spTgt spid="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25000"/>
                            </p:stCondLst>
                            <p:childTnLst>
                              <p:par>
                                <p:cTn id="6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" dur="2000"/>
                                        <p:tgtEl>
                                          <p:spTgt spid="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7000"/>
                            </p:stCondLst>
                            <p:childTnLst>
                              <p:par>
                                <p:cTn id="6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9" dur="2000"/>
                                        <p:tgtEl>
                                          <p:spTgt spid="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29000"/>
                            </p:stCondLst>
                            <p:childTnLst>
                              <p:par>
                                <p:cTn id="7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3" dur="2000"/>
                                        <p:tgtEl>
                                          <p:spTgt spid="4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31000"/>
                            </p:stCondLst>
                            <p:childTnLst>
                              <p:par>
                                <p:cTn id="7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7" dur="2000"/>
                                        <p:tgtEl>
                                          <p:spTgt spid="4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33000"/>
                            </p:stCondLst>
                            <p:childTnLst>
                              <p:par>
                                <p:cTn id="7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1" dur="2000"/>
                                        <p:tgtEl>
                                          <p:spTgt spid="4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35000"/>
                            </p:stCondLst>
                            <p:childTnLst>
                              <p:par>
                                <p:cTn id="8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5" dur="2000"/>
                                        <p:tgtEl>
                                          <p:spTgt spid="4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99"/>
                </a:solidFill>
                <a:latin typeface="Arial"/>
              </a:rPr>
              <a:t>Приём в эксплуатацию новых и реконструируемых</a:t>
            </a:r>
            <a:br>
              <a:rPr sz="2800"/>
            </a:br>
            <a:r>
              <a:rPr b="1" lang="en-US" sz="2800" spc="-1" strike="noStrike">
                <a:solidFill>
                  <a:srgbClr val="ffcc99"/>
                </a:solidFill>
                <a:latin typeface="Arial"/>
              </a:rPr>
              <a:t>производственных зданий и сооруже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800" spc="-1" strike="noStrike" u="sng">
                <a:solidFill>
                  <a:srgbClr val="ffff66"/>
                </a:solidFill>
                <a:uFillTx/>
                <a:latin typeface="Arial"/>
              </a:rPr>
              <a:t>Руководителю организации при приёмке зданий и сооружений долж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 u="sng">
                <a:solidFill>
                  <a:srgbClr val="ffff66"/>
                </a:solidFill>
                <a:uFillTx/>
                <a:latin typeface="Arial"/>
              </a:rPr>
              <a:t>быть переданы следующие документы:</a:t>
            </a:r>
            <a:r>
              <a:rPr b="0" i="1" lang="ru-RU" sz="1800" spc="-1" strike="noStrike" u="sng">
                <a:solidFill>
                  <a:srgbClr val="33ccff"/>
                </a:solidFill>
                <a:uFillTx/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ffff"/>
                </a:solidFill>
                <a:latin typeface="Arial"/>
              </a:rPr>
              <a:t>акт приёмки в эксплуатацию приёмочной комиссией законченн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ffff"/>
                </a:solidFill>
                <a:latin typeface="Arial"/>
              </a:rPr>
              <a:t>строительством объект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ffff"/>
                </a:solidFill>
                <a:latin typeface="Arial"/>
              </a:rPr>
              <a:t>технический проект (техническое задание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ffff"/>
                </a:solidFill>
                <a:latin typeface="Arial"/>
              </a:rPr>
              <a:t>технорабочий проект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ffff"/>
                </a:solidFill>
                <a:latin typeface="Arial"/>
              </a:rPr>
              <a:t>рабочие чертеж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ffff"/>
                </a:solidFill>
                <a:latin typeface="Arial"/>
              </a:rPr>
              <a:t>материалы инженерно-геологических изыскани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ffff"/>
                </a:solidFill>
                <a:latin typeface="Arial"/>
              </a:rPr>
              <a:t>заводские сертификаты на поставленные стальные конструкци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ffff"/>
                </a:solidFill>
                <a:latin typeface="Arial"/>
              </a:rPr>
              <a:t>документы, удостоверяющие качество применённых  железобетон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ffff"/>
                </a:solidFill>
                <a:latin typeface="Arial"/>
              </a:rPr>
              <a:t>конструкций, узлов, деталей, метизов, электродов и т.д.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ffff"/>
                </a:solidFill>
                <a:latin typeface="Arial"/>
              </a:rPr>
              <a:t>акты на скрытые работ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ffff"/>
                </a:solidFill>
                <a:latin typeface="Arial"/>
              </a:rPr>
              <a:t>акты приёмки работ по антикоррозийной защите строитель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ffff"/>
                </a:solidFill>
                <a:latin typeface="Arial"/>
              </a:rPr>
              <a:t>конструкци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ffff"/>
                </a:solidFill>
                <a:latin typeface="Arial"/>
              </a:rPr>
              <a:t>акты испытаний отдельных узлов инженерных систе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ffff"/>
                </a:solidFill>
                <a:latin typeface="Arial"/>
              </a:rPr>
              <a:t>сведения об отступлениях от проекта и недоделках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704000" y="-14400"/>
            <a:ext cx="1476360" cy="12826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 rot="5400000">
            <a:off x="8322120" y="6003000"/>
            <a:ext cx="863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000"/>
                            </p:stCondLst>
                            <p:childTnLst>
                              <p:par>
                                <p:cTn id="9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8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8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4000"/>
                            </p:stCondLst>
                            <p:childTnLst>
                              <p:par>
                                <p:cTn id="108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8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8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6000"/>
                            </p:stCondLst>
                            <p:childTnLst>
                              <p:par>
                                <p:cTn id="11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9650"/>
                            </p:stCondLst>
                            <p:childTnLst>
                              <p:par>
                                <p:cTn id="12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1700"/>
                            </p:stCondLst>
                            <p:childTnLst>
                              <p:par>
                                <p:cTn id="13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4550"/>
                            </p:stCondLst>
                            <p:childTnLst>
                              <p:par>
                                <p:cTn id="13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16450"/>
                            </p:stCondLst>
                            <p:childTnLst>
                              <p:par>
                                <p:cTn id="14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18150"/>
                            </p:stCondLst>
                            <p:childTnLst>
                              <p:par>
                                <p:cTn id="15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21200"/>
                            </p:stCondLst>
                            <p:childTnLst>
                              <p:par>
                                <p:cTn id="15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24850"/>
                            </p:stCondLst>
                            <p:childTnLst>
                              <p:par>
                                <p:cTn id="16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8650"/>
                            </p:stCondLst>
                            <p:childTnLst>
                              <p:par>
                                <p:cTn id="17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32100"/>
                            </p:stCondLst>
                            <p:childTnLst>
                              <p:par>
                                <p:cTn id="17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34050"/>
                            </p:stCondLst>
                            <p:childTnLst>
                              <p:par>
                                <p:cTn id="18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4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4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4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4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37550"/>
                            </p:stCondLst>
                            <p:childTnLst>
                              <p:par>
                                <p:cTn id="19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4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4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4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4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39100"/>
                            </p:stCondLst>
                            <p:childTnLst>
                              <p:par>
                                <p:cTn id="20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4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4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4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4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42250"/>
                            </p:stCondLst>
                            <p:childTnLst>
                              <p:par>
                                <p:cTn id="20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4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4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4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4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Расследование причин аварий со зданиями и сооружения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Под аварией понимается обрушение, повреждение здания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сооружения в целом, его частей или отдельного конструктивног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элемен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 u="sng">
                <a:solidFill>
                  <a:srgbClr val="00ff99"/>
                </a:solidFill>
                <a:uFillTx/>
                <a:latin typeface="Arial"/>
              </a:rPr>
              <a:t>К аварии первой категории относятся обрушения зданий 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ff99"/>
                </a:solidFill>
                <a:uFillTx/>
                <a:latin typeface="Arial"/>
              </a:rPr>
              <a:t>сооружений или их частей которы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вызвали нарушение функционирования других отраслей экономик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повлекли гибель двух или более человек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привели к количеству пострадавших более 15 челове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К аварии второй категории относятся обрушения  и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повреждения зданий и сооружений, их частей или отдельн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конструктивных элементов, угрожающие безопасному ведени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рабо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667640" y="533520"/>
            <a:ext cx="1476360" cy="12826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 rot="5400000">
            <a:off x="8322120" y="6003000"/>
            <a:ext cx="863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3000"/>
                            </p:stCondLst>
                            <p:childTnLst>
                              <p:par>
                                <p:cTn id="22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5000"/>
                            </p:stCondLst>
                            <p:childTnLst>
                              <p:par>
                                <p:cTn id="23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2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2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2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20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7000"/>
                            </p:stCondLst>
                            <p:childTnLst>
                              <p:par>
                                <p:cTn id="24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2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2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2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20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9000"/>
                            </p:stCondLst>
                            <p:childTnLst>
                              <p:par>
                                <p:cTn id="24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20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6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20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13000"/>
                            </p:stCondLst>
                            <p:childTnLst>
                              <p:par>
                                <p:cTn id="27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20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20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15000"/>
                            </p:stCondLst>
                            <p:childTnLst>
                              <p:par>
                                <p:cTn id="276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2000" fill="hold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7000"/>
                            </p:stCondLst>
                            <p:childTnLst>
                              <p:par>
                                <p:cTn id="28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2000" fill="hold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2000" fill="hold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19000"/>
                            </p:stCondLst>
                            <p:childTnLst>
                              <p:par>
                                <p:cTn id="286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2000" fill="hold"/>
                                        <p:tgtEl>
                                          <p:spTgt spid="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2000" fill="hold"/>
                                        <p:tgtEl>
                                          <p:spTgt spid="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21000"/>
                            </p:stCondLst>
                            <p:childTnLst>
                              <p:par>
                                <p:cTn id="29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2000" fill="hold"/>
                                        <p:tgtEl>
                                          <p:spTgt spid="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2000" fill="hold"/>
                                        <p:tgtEl>
                                          <p:spTgt spid="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23000"/>
                            </p:stCondLst>
                            <p:childTnLst>
                              <p:par>
                                <p:cTn id="296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2000" fill="hold"/>
                                        <p:tgtEl>
                                          <p:spTgt spid="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2000" fill="hold"/>
                                        <p:tgtEl>
                                          <p:spTgt spid="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25000"/>
                            </p:stCondLst>
                            <p:childTnLst>
                              <p:par>
                                <p:cTn id="30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2000" fill="hold"/>
                                        <p:tgtEl>
                                          <p:spTgt spid="5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2000" fill="hold"/>
                                        <p:tgtEl>
                                          <p:spTgt spid="5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ff"/>
            </a:gs>
            <a:gs pos="100000">
              <a:srgbClr val="5e46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ff"/>
                </a:solidFill>
                <a:latin typeface="Arial"/>
              </a:rPr>
              <a:t>Организация расследования причин аварий с производственными  зданиями  </a:t>
            </a:r>
            <a:br>
              <a:rPr sz="2800"/>
            </a:br>
            <a:r>
              <a:rPr b="1" lang="en-US" sz="2800" spc="-1" strike="noStrike">
                <a:solidFill>
                  <a:srgbClr val="66ffff"/>
                </a:solidFill>
                <a:latin typeface="Arial"/>
              </a:rPr>
              <a:t> и сооружениями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ccecff"/>
                </a:solidFill>
                <a:latin typeface="Arial"/>
              </a:rPr>
              <a:t>При авариях первой категории техническая комиссия назначаетс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Arial"/>
              </a:rPr>
              <a:t>министерствами и ведомствами РФ по строящимся 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Arial"/>
              </a:rPr>
              <a:t>эксплуатируемым объектам, подведомственным и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Arial"/>
              </a:rPr>
              <a:t>соответствующими органами исполнительной власти субъек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Arial"/>
              </a:rPr>
              <a:t>РФ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ccecff"/>
                </a:solidFill>
                <a:latin typeface="Arial"/>
              </a:rPr>
              <a:t>При авариях второй категории технические комиссии назначаютс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Arial"/>
              </a:rPr>
              <a:t>министерствами и ведомствами РФ по строящимся 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Arial"/>
              </a:rPr>
              <a:t>эксплуатируемым объектам,  подведомственным и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Arial"/>
              </a:rPr>
              <a:t>соответствующими органами исполнительной власти городов 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Arial"/>
              </a:rPr>
              <a:t>Район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7162920" y="457200"/>
            <a:ext cx="1476360" cy="12826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 rot="5400000">
            <a:off x="8322120" y="6003000"/>
            <a:ext cx="863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3000"/>
                            </p:stCondLst>
                            <p:childTnLst>
                              <p:par>
                                <p:cTn id="32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16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" dur="16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6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6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5000"/>
                            </p:stCondLst>
                            <p:childTnLst>
                              <p:par>
                                <p:cTn id="33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16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16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6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6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7000"/>
                            </p:stCondLst>
                            <p:childTnLst>
                              <p:par>
                                <p:cTn id="33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16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16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6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6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9000"/>
                            </p:stCondLst>
                            <p:childTnLst>
                              <p:par>
                                <p:cTn id="34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16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16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6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6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1000"/>
                            </p:stCondLst>
                            <p:childTnLst>
                              <p:par>
                                <p:cTn id="35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1600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0" dur="16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6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6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13000"/>
                            </p:stCondLst>
                            <p:childTnLst>
                              <p:par>
                                <p:cTn id="36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1600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9" dur="16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6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6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15000"/>
                            </p:stCondLst>
                            <p:childTnLst>
                              <p:par>
                                <p:cTn id="37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1600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8" dur="1600" fill="hold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600" fill="hold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600" fill="hold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17000"/>
                            </p:stCondLst>
                            <p:childTnLst>
                              <p:par>
                                <p:cTn id="38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1600"/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7" dur="1600" fill="hold"/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600" fill="hold"/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600" fill="hold"/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19000"/>
                            </p:stCondLst>
                            <p:childTnLst>
                              <p:par>
                                <p:cTn id="39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1600"/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6" dur="1600" fill="hold"/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600" fill="hold"/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600" fill="hold"/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21000"/>
                            </p:stCondLst>
                            <p:childTnLst>
                              <p:par>
                                <p:cTn id="40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1600"/>
                                        <p:tgtEl>
                                          <p:spTgt spid="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5" dur="1600" fill="hold"/>
                                        <p:tgtEl>
                                          <p:spTgt spid="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600" fill="hold"/>
                                        <p:tgtEl>
                                          <p:spTgt spid="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600" fill="hold"/>
                                        <p:tgtEl>
                                          <p:spTgt spid="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Вредный </a:t>
            </a:r>
            <a:br>
              <a:rPr sz="4000"/>
            </a:b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производственный фактор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Вредный производственный фактор 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производственный фактор, воздействие которо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на работника может привести к его заболевани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ff"/>
                </a:solidFill>
                <a:uFillTx/>
                <a:latin typeface="Arial"/>
              </a:rPr>
              <a:t>Вредными факторами могут быть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физические фактор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химические фактор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биологические фактор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факторы трудового процесса – тяжесть и напряжённость труд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опасные факторы рабочей сред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7704000" y="-14400"/>
            <a:ext cx="1476360" cy="12826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 rot="5400000">
            <a:off x="8246160" y="6003000"/>
            <a:ext cx="863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1000"/>
                            </p:stCondLst>
                            <p:childTnLst>
                              <p:par>
                                <p:cTn id="41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21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22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3000"/>
                            </p:stCondLst>
                            <p:childTnLst>
                              <p:par>
                                <p:cTn id="42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2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2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2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2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2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2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2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2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7000"/>
                            </p:stCondLst>
                            <p:childTnLst>
                              <p:par>
                                <p:cTn id="43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2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2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2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2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9000"/>
                            </p:stCondLst>
                            <p:childTnLst>
                              <p:par>
                                <p:cTn id="446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48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49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50" dur="20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11000"/>
                            </p:stCondLst>
                            <p:childTnLst>
                              <p:par>
                                <p:cTn id="45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20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20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20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20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13000"/>
                            </p:stCondLst>
                            <p:childTnLst>
                              <p:par>
                                <p:cTn id="45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20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20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20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20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15000"/>
                            </p:stCondLst>
                            <p:childTnLst>
                              <p:par>
                                <p:cTn id="46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20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20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20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20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17000"/>
                            </p:stCondLst>
                            <p:childTnLst>
                              <p:par>
                                <p:cTn id="47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2000" fill="hold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2000" fill="hold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2000" fill="hold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2000" fill="hold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19000"/>
                            </p:stCondLst>
                            <p:childTnLst>
                              <p:par>
                                <p:cTn id="48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2000" fill="hold"/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2000" fill="hold"/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2000" fill="hold"/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2000" fill="hold"/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6600"/>
                </a:solidFill>
                <a:latin typeface="Arial"/>
              </a:rPr>
              <a:t>Общие требования по </a:t>
            </a:r>
            <a:br>
              <a:rPr sz="3600"/>
            </a:br>
            <a:r>
              <a:rPr b="1" lang="ru-RU" sz="3600" spc="-1" strike="noStrike">
                <a:solidFill>
                  <a:srgbClr val="ff6600"/>
                </a:solidFill>
                <a:latin typeface="Arial"/>
              </a:rPr>
              <a:t>снижению воздействия </a:t>
            </a:r>
            <a:br>
              <a:rPr sz="3600"/>
            </a:br>
            <a:r>
              <a:rPr b="1" lang="ru-RU" sz="3600" spc="-1" strike="noStrike">
                <a:solidFill>
                  <a:srgbClr val="ff6600"/>
                </a:solidFill>
                <a:latin typeface="Arial"/>
              </a:rPr>
              <a:t>вредных вещест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3399"/>
                </a:solidFill>
                <a:latin typeface="Arial"/>
              </a:rPr>
              <a:t>Предельно допустимые концентрации  (ПДК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99"/>
                </a:solidFill>
                <a:latin typeface="Arial"/>
              </a:rPr>
              <a:t>пыли в воздухе рабочей зоны установлены Г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99"/>
                </a:solidFill>
                <a:latin typeface="Arial"/>
              </a:rPr>
              <a:t>2.2.5.1313-03 «Предельно допустим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99"/>
                </a:solidFill>
                <a:latin typeface="Arial"/>
              </a:rPr>
              <a:t>концентрации вредных веществ в воздух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99"/>
                </a:solidFill>
                <a:latin typeface="Arial"/>
              </a:rPr>
              <a:t>рабочей зоны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3399"/>
                </a:solidFill>
                <a:latin typeface="Arial"/>
              </a:rPr>
              <a:t>Снижение уровня воздействия на работни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99"/>
                </a:solidFill>
                <a:latin typeface="Arial"/>
              </a:rPr>
              <a:t>вредных веществ достигается путё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99"/>
                </a:solidFill>
                <a:latin typeface="Arial"/>
              </a:rPr>
              <a:t>проведения технических, технологических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99"/>
                </a:solidFill>
                <a:latin typeface="Arial"/>
              </a:rPr>
              <a:t>санитарно-гигиенических мероприяти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7467480" y="152280"/>
            <a:ext cx="1476360" cy="12826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 rot="5400000">
            <a:off x="8246160" y="6003000"/>
            <a:ext cx="863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1000"/>
                            </p:stCondLst>
                            <p:childTnLst>
                              <p:par>
                                <p:cTn id="49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7" dur="77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98" dur="770" fill="hold"/>
                                        <p:tgtEl>
                                          <p:spTgt spid="6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00" dur="77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02" dur="77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0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fill="hold">
                            <p:stCondLst>
                              <p:cond delay="3000"/>
                            </p:stCondLst>
                            <p:childTnLst>
                              <p:par>
                                <p:cTn id="505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0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12250"/>
                            </p:stCondLst>
                            <p:childTnLst>
                              <p:par>
                                <p:cTn id="513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15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21500"/>
                            </p:stCondLst>
                            <p:childTnLst>
                              <p:par>
                                <p:cTn id="521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23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30000"/>
                            </p:stCondLst>
                            <p:childTnLst>
                              <p:par>
                                <p:cTn id="529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31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fill="hold">
                            <p:stCondLst>
                              <p:cond delay="38750"/>
                            </p:stCondLst>
                            <p:childTnLst>
                              <p:par>
                                <p:cTn id="537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3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42250"/>
                            </p:stCondLst>
                            <p:childTnLst>
                              <p:par>
                                <p:cTn id="545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4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fill="hold">
                            <p:stCondLst>
                              <p:cond delay="51750"/>
                            </p:stCondLst>
                            <p:childTnLst>
                              <p:par>
                                <p:cTn id="553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55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59500"/>
                            </p:stCondLst>
                            <p:childTnLst>
                              <p:par>
                                <p:cTn id="561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63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fill="hold">
                            <p:stCondLst>
                              <p:cond delay="69250"/>
                            </p:stCondLst>
                            <p:childTnLst>
                              <p:par>
                                <p:cTn id="569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71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Botvenko</cp:lastModifiedBy>
  <dcterms:modified xsi:type="dcterms:W3CDTF">2007-03-06T07:27:27Z</dcterms:modified>
  <cp:revision>14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